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39B6-DCDB-45C6-9FE9-98F43AA51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4EF8-E5F8-4AA7-A6A7-B8372767B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DBA-44B2-4B77-9FBD-C06FD9FD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8D4-DD22-4A81-BF5B-44F21E72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6C6-AC50-482F-B553-AC15525B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4BE-CC0E-47DB-BA63-6BA9EDEF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18E-6CB1-41B1-888E-339DDB3D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56A-3D52-4729-B3A3-D10D8034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088-8C1D-45BC-896B-05C5FC1F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A6B-8E93-4F96-B700-4E70B664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28F-0C80-4307-BAD0-ABE368B5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736-4D13-412A-91FF-12193090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20C-765D-411A-82E5-16556D67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0A5-AAB5-4DE4-B527-8403833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7EFE-5DFA-414A-B7C1-E1279D52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8"/>
          <p:cNvGrpSpPr/>
          <p:nvPr/>
        </p:nvGrpSpPr>
        <p:grpSpPr>
          <a:xfrm>
            <a:off x="395280" y="404640"/>
            <a:ext cx="8458200" cy="3311640"/>
            <a:chOff x="395280" y="404640"/>
            <a:chExt cx="8458200" cy="3311640"/>
          </a:xfrm>
        </p:grpSpPr>
        <p:sp>
          <p:nvSpPr>
            <p:cNvPr id="49" name="Text Box 4"/>
            <p:cNvSpPr/>
            <p:nvPr/>
          </p:nvSpPr>
          <p:spPr>
            <a:xfrm>
              <a:off x="852480" y="539280"/>
              <a:ext cx="739152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5400"/>
                  </a:solidFill>
                  <a:latin typeface="Arial"/>
                </a:rPr>
                <a:t>Комплекс дыхательных упражнений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5400"/>
                  </a:solidFill>
                  <a:latin typeface="Arial"/>
                </a:rPr>
                <a:t>по методике А.Н. Стрельников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395280" y="404640"/>
              <a:ext cx="8458200" cy="3311640"/>
            </a:xfrm>
            <a:prstGeom prst="roundRect">
              <a:avLst>
                <a:gd name="adj" fmla="val 16667"/>
              </a:avLst>
            </a:prstGeom>
            <a:noFill/>
            <a:ln w="1872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9"/>
          <p:cNvGrpSpPr/>
          <p:nvPr/>
        </p:nvGrpSpPr>
        <p:grpSpPr>
          <a:xfrm>
            <a:off x="1258920" y="4135320"/>
            <a:ext cx="6781680" cy="2614320"/>
            <a:chOff x="1258920" y="4135320"/>
            <a:chExt cx="6781680" cy="2614320"/>
          </a:xfrm>
        </p:grpSpPr>
        <p:sp>
          <p:nvSpPr>
            <p:cNvPr id="52" name="AutoShape 6"/>
            <p:cNvSpPr/>
            <p:nvPr/>
          </p:nvSpPr>
          <p:spPr>
            <a:xfrm>
              <a:off x="1258920" y="4135320"/>
              <a:ext cx="6705720" cy="2210040"/>
            </a:xfrm>
            <a:prstGeom prst="roundRect">
              <a:avLst>
                <a:gd name="adj" fmla="val 16667"/>
              </a:avLst>
            </a:prstGeom>
            <a:noFill/>
            <a:ln w="127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1563480" y="4363920"/>
              <a:ext cx="6477120" cy="23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Составитель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Berlin Sans FB Demi"/>
                </a:rPr>
                <a:t> :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  ПРОКОПЕНКО НАДЕЖДА 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    КОНСТАНТИНОВ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   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учитель музыки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   </a:t>
              </a:r>
              <a:r>
                <a:rPr b="1" i="1" lang="en-US" sz="2000" spc="-1" strike="noStrike">
                  <a:solidFill>
                    <a:srgbClr val="005400"/>
                  </a:solidFill>
                  <a:latin typeface="Arial"/>
                </a:rPr>
                <a:t>МОУ СОШ№3 г.Салехар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38894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9.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Большой маятник»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(«Насос» + «Обними плечи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392720" cy="65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0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2530440" cy="5976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48360" y="26028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Перекат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96000" y="620280"/>
            <a:ext cx="28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Шаги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2558880" cy="5977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6520" y="620640"/>
            <a:ext cx="28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1.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Ладош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3118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2.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Погончи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561024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3.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Насос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18464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4.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Повороты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475308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5.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Уш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57560" y="1268280"/>
            <a:ext cx="469080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6.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Маятни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439416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7.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Кош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35280" y="1341360"/>
            <a:ext cx="5184720" cy="5160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24192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Упражнение 8.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Обними пле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6149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4:35:18Z</dcterms:created>
  <dc:creator>Ruslan</dc:creator>
  <dc:description/>
  <dc:language>en-US</dc:language>
  <cp:lastModifiedBy>Ruslan</cp:lastModifiedBy>
  <dcterms:modified xsi:type="dcterms:W3CDTF">2009-06-15T00:12:33Z</dcterms:modified>
  <cp:revision>20</cp:revision>
  <dc:subject/>
  <dc:title>Слайд 1</dc:title>
</cp:coreProperties>
</file>